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C9E-D8CF-4151-843A-64EB8758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AC7-B123-40CB-9D1F-9E115503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822-168D-4072-8C08-A1D72F69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9A0-B6FD-4336-A2A8-73EB53F7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AD7-4D08-4588-9317-6221959C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885-090F-4A30-A2AB-0C5466B9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CB5-D917-45D4-9CC5-1F6208CF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2E0-58FA-41EF-A7C2-6FE78A73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6C9-E670-442A-AB6F-C4391A5F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5AB-0415-4F13-B4E1-D65F27B0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E52-05E2-408B-AD9E-AFEF1999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601-9A16-4F83-B94D-33962027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FF96-E2E2-4D08-A87D-52BD1C61C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28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86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1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نفال في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دينة المن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زمن نزول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ب غزوة 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75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50133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أنف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ذكرها في بداية الس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6012000" y="435456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نف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227160" y="5629320"/>
            <a:ext cx="866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معظم الآيات نزلت بعد معركة بدر الكبرى ولها علاقة ب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غزوة بدر وفضل الله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19"/>
          <p:cNvSpPr/>
          <p:nvPr/>
        </p:nvSpPr>
        <p:spPr>
          <a:xfrm>
            <a:off x="8820000" y="1662120"/>
            <a:ext cx="0" cy="392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أحكام الشرعية مرجعها إلى الله ورسوله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طاعة الله ورسوله </a:t>
            </a:r>
            <a:r>
              <a:rPr b="1" lang="en-US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خطورة معصيتهم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رة المعاص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إعداد القو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له لا يغير ما به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واز الميل إلى السلم إذا طلب العدو ذ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غنائم والأسر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ؤمنين أمة 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